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067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4 videos, each are about 2 minutes in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is a group of 3, then C &amp; D could be combined… Part C has lots of ch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 Create a graph, symbol, picture, word splash, poem, etc. that demonstrates the key characteri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17DA2-7913-4955-AA46-82CE752A08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867EC-A26B-4C92-A947-9A4B8F8CB0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D1DB2-ECD2-46DF-963B-D032CFF897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F00A2-DC02-4502-8D56-EEB073F492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B608D-3B73-4B19-94AF-7BB62331EF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F0286-5EF5-4923-895A-469BAC0D14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77484-E813-424B-B1E0-FDA3C661A2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9C019-1763-427E-B88F-D9EFBD21AA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A07D8-FDD2-45B6-8EE6-96B2B2A27B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FC3D2-0627-4304-AD5D-9846A8A46E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F8498-2529-488F-AC9A-0F057409B9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E7DF7-95D1-4009-A373-A784C1ED0D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7A88-135A-4000-9E44-3C37ED4C5B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C0D6-088B-4BD8-BC91-A5CF2BAF447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Algebraic Thinking Breakout 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Nottawasa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Responding to Students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ponding to Video ~20 min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ight you respond effectively to this pair of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kes your suggested response effe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26D0-5848-495B-A6F4-2CADC5C9CE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sponding with Time ~15 min</a:t>
            </a:r>
            <a:endParaRPr b="0" lang="en-US" sz="32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281160" indent="-241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the samples of student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41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how you will respond to this small group of students during tomorrow’s les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708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athematics will you focus on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708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ill you sa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708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(s) will you ask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41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 one representative sample to share with the whole grou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41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3310-4718-44BE-B621-4A719290E7E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90360"/>
            <a:ext cx="84582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ponding with Time ~15 min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presentative sa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verview of your response to this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7113-ED6A-4ECD-B642-2370338234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Consolidate: 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these groups of students are in the same class.  Now 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manage differentiated responses to the individuals and small groups in our class who have different learning nee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2A9F-7E2C-40D5-860C-6CC63C759FA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Consolidate: Video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429000" y="1600200"/>
            <a:ext cx="4572000" cy="3581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you feelin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gr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162E-1CE8-45F5-B841-59EB75A5351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Z:\Clip Art\Road Signs\Traffic Signals\Signal 54.wmf"/>
          <p:cNvPicPr/>
          <p:nvPr/>
        </p:nvPicPr>
        <p:blipFill>
          <a:blip r:embed="rId1"/>
          <a:stretch/>
        </p:blipFill>
        <p:spPr>
          <a:xfrm>
            <a:off x="401760" y="1447920"/>
            <a:ext cx="1447560" cy="39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Consolidate: 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today’s s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feel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feel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gr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feel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FCB2-BE6D-4FDB-919A-9F6CA105C74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Z:\Clip Art\Travel &amp; Leisure\Vacations (F - Q)\Map.wmf"/>
          <p:cNvPicPr/>
          <p:nvPr/>
        </p:nvPicPr>
        <p:blipFill>
          <a:blip r:embed="rId1"/>
          <a:stretch/>
        </p:blipFill>
        <p:spPr>
          <a:xfrm>
            <a:off x="6553080" y="195120"/>
            <a:ext cx="1227240" cy="1141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Z:\Clip Art\Travel &amp; Leisure\Vacations (F - Q)\Passport 1.wmf"/>
          <p:cNvPicPr/>
          <p:nvPr/>
        </p:nvPicPr>
        <p:blipFill>
          <a:blip r:embed="rId2"/>
          <a:stretch/>
        </p:blipFill>
        <p:spPr>
          <a:xfrm rot="21444000">
            <a:off x="7997400" y="510840"/>
            <a:ext cx="838440" cy="10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lgebraic Thinking ~ Session #3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950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characteristics of effective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and extend personal repertoire of question stems to be used when responding in the mo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835E-762C-4AC3-B818-95EEB3BBD9F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05A5-5912-4D64-BAE1-75189DA6DF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lgebraic Thinking ~ Session #3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92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 and extend personal repertoire of strategies for responding to groups of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 strategies that facilitate multiple responses within a single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mathematical thinking in a range of responses to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A856-52E3-4881-ABB3-B2B279A2637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729F-D6B3-42E5-B681-72A3C22EECC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6868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Minds On: </a:t>
            </a:r>
            <a:r>
              <a:rPr b="0" lang="en-US" sz="3600" spc="-1" strike="noStrike">
                <a:solidFill>
                  <a:srgbClr val="92d050"/>
                </a:solidFill>
                <a:latin typeface="Arial"/>
              </a:rPr>
              <a:t>Think/Pair/Share</a:t>
            </a: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77c29"/>
                </a:solidFill>
                <a:latin typeface="Arial"/>
              </a:rPr>
              <a:t>~ 5 min</a:t>
            </a:r>
            <a:endParaRPr b="0" lang="en-US" sz="32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a time when you received feedback that really helped you to impr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the feedback look like?  Feel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de it effe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8742-B321-4BD9-B915-C7CF56C5474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Z:\Clip Art\Sports\Cartoons (A - Ba)\Baseball - Coach 3.wmf"/>
          <p:cNvPicPr/>
          <p:nvPr/>
        </p:nvPicPr>
        <p:blipFill>
          <a:blip r:embed="rId1"/>
          <a:stretch/>
        </p:blipFill>
        <p:spPr>
          <a:xfrm>
            <a:off x="6248520" y="4419720"/>
            <a:ext cx="2746080" cy="215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Minds On: </a:t>
            </a:r>
            <a:r>
              <a:rPr b="0" lang="en-US" sz="3600" spc="-1" strike="noStrike">
                <a:solidFill>
                  <a:srgbClr val="92d050"/>
                </a:solidFill>
                <a:latin typeface="Arial"/>
              </a:rPr>
              <a:t>Self Assessment</a:t>
            </a: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77c29"/>
                </a:solidFill>
                <a:latin typeface="Arial"/>
              </a:rPr>
              <a:t>~ 15 min</a:t>
            </a:r>
            <a:endParaRPr b="0" lang="en-US" sz="32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DB6F-6F47-4524-82FC-DD0609C004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81040" y="1143000"/>
            <a:ext cx="7572240" cy="4300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Z:\Clip Art\Travel &amp; Leisure\Vacations (F - Q)\Map.wmf"/>
          <p:cNvPicPr/>
          <p:nvPr/>
        </p:nvPicPr>
        <p:blipFill>
          <a:blip r:embed="rId2"/>
          <a:stretch/>
        </p:blipFill>
        <p:spPr>
          <a:xfrm>
            <a:off x="0" y="1143000"/>
            <a:ext cx="928800" cy="863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Z:\Clip Art\Travel &amp; Leisure\Vacations (F - Q)\Passport 1.wmf"/>
          <p:cNvPicPr/>
          <p:nvPr/>
        </p:nvPicPr>
        <p:blipFill>
          <a:blip r:embed="rId3"/>
          <a:stretch/>
        </p:blipFill>
        <p:spPr>
          <a:xfrm rot="21444000">
            <a:off x="8229600" y="1218960"/>
            <a:ext cx="622440" cy="81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Create a Group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into a group of 4 people based on your preferred learning sty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who is A, B, C, and D based on years of teaching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– least hair  through to D - most 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650E-24AE-437F-86F9-77DEABE8DD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Z:\Clip Art\Clothing &amp; Accessories\Glasses\Eyeglasses 16.wmf"/>
          <p:cNvPicPr/>
          <p:nvPr/>
        </p:nvPicPr>
        <p:blipFill>
          <a:blip r:embed="rId1"/>
          <a:stretch/>
        </p:blipFill>
        <p:spPr>
          <a:xfrm>
            <a:off x="1371600" y="2743200"/>
            <a:ext cx="126684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Z:\Clip Art\Cartoons\Make Your Own! (A - Ha)\Ear 6.wmf"/>
          <p:cNvPicPr/>
          <p:nvPr/>
        </p:nvPicPr>
        <p:blipFill>
          <a:blip r:embed="rId2"/>
          <a:stretch/>
        </p:blipFill>
        <p:spPr>
          <a:xfrm>
            <a:off x="6858000" y="2292480"/>
            <a:ext cx="581040" cy="1447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Z:\Clip Art\People\Cartoons (Ma - Ma) 1\Man Running 02.wmf"/>
          <p:cNvPicPr/>
          <p:nvPr/>
        </p:nvPicPr>
        <p:blipFill>
          <a:blip r:embed="rId3"/>
          <a:stretch/>
        </p:blipFill>
        <p:spPr>
          <a:xfrm>
            <a:off x="4038480" y="2666880"/>
            <a:ext cx="1168560" cy="121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6640" y="228600"/>
            <a:ext cx="63198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</a:t>
            </a:r>
            <a:br>
              <a:rPr sz="44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earch Article ~10 min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3187440"/>
            <a:ext cx="8381880" cy="3276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nd Highli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~ Feedback as Part of Formative Assessment (pp 1-2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~ What the Research Shows (pp 3-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~ Feedback Strategies and Content (pp 4-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~ Feedback and Grading (pp 7-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DB07-0A14-4958-B885-BBC9048DFCE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1685880" cy="1884240"/>
          </a:xfrm>
          <a:prstGeom prst="rect">
            <a:avLst/>
          </a:prstGeom>
          <a:ln w="0">
            <a:noFill/>
          </a:ln>
        </p:spPr>
      </p:pic>
      <p:sp>
        <p:nvSpPr>
          <p:cNvPr id="79" name="TextBox 5"/>
          <p:cNvSpPr/>
          <p:nvPr/>
        </p:nvSpPr>
        <p:spPr>
          <a:xfrm>
            <a:off x="233280" y="237636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Susan Brookh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loud Callout 4"/>
          <p:cNvSpPr/>
          <p:nvPr/>
        </p:nvSpPr>
        <p:spPr>
          <a:xfrm>
            <a:off x="4495680" y="1676520"/>
            <a:ext cx="4496040" cy="1511280"/>
          </a:xfrm>
          <a:prstGeom prst="cloudCallout">
            <a:avLst>
              <a:gd name="adj1" fmla="val -47884"/>
              <a:gd name="adj2" fmla="val 465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are the characteristics of effective feedbac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hare and Summarize ~15 min</a:t>
            </a:r>
            <a:endParaRPr b="0" lang="en-US" sz="32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what you read using a Round Robin form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the key characteristics of effective feed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wish to choose a product that aligns with your preferred learning sty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your product with the larg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9E17-88CC-4D52-AB91-02C34D275C1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 Responding to Video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9 students are responding to this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mber called A is 20% of a number called B. But A is 40% of C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know about B and 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0215-C901-4886-92D9-64376CD3D2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Robin</cp:lastModifiedBy>
  <dcterms:modified xsi:type="dcterms:W3CDTF">2011-08-11T00:09:47Z</dcterms:modified>
  <cp:revision>26</cp:revision>
  <dc:subject/>
  <dc:title>&lt;Title&gt;</dc:title>
</cp:coreProperties>
</file>